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a4b3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9D5A-E1E4-4838-A1FD-EAA7FC739FA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去除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模板上的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无忧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整理发布的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首先打开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模板，选择视图，然后选择幻灯片母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然后再在幻灯片母版视图中点击“无忧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整理发布”的文字文本框，删除，保存即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更多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模板资源，请访问无忧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网站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www.51ppt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使用时删除本备注即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此幻灯片插入到演示文稿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此模板作为演示文稿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pp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文件）保存到计算机上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将包含该图像幻灯片的演示文稿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“幻灯片”选项卡上，将插入点置于将位于该图像幻灯片之前的幻灯片之后。（确保不要选择幻灯片。插入点应位于幻灯片之间。）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“插入”菜单上，单击“幻灯片（从文件）”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“幻灯片搜索器”对话框中，单击“搜索演示文稿”选项卡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单击“浏览”，找到并选择包含该图像幻灯片的演示文稿，然后单击“打开”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“幻灯片（从文件）”对话框中，选择该图像幻灯片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选中“保留源格式”复选框。如果不选中此复选框，复制的幻灯片将继承在演示文稿中位于它之前的幻灯片的设计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单击“插入”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单击“关闭”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7ED3-378C-4623-950B-5515234F540B}" type="slidenum">
              <a:rPr b="0" lang="zh-CN" sz="1200" spc="-1" strike="noStrike">
                <a:solidFill>
                  <a:srgbClr val="5a4b3c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5a4b3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095-C87F-4975-837D-649DD88C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880" y="38023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4C2-D229-46EA-A23A-F55F33D8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872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EAD-E650-46F5-A0B6-105D5E7B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116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744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88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116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7744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E92-D42B-4C59-82DD-A5F79597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621B-5F1C-4E68-9CE2-FB4FEEB0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49B1-C4FB-4BB4-9D44-E1BE7DB2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03FE-9316-4E81-BF40-93F1CFE1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80B7-D3BD-4633-AF91-F590D26C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31A8-DDF3-425C-937A-03281993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4880" y="152280"/>
            <a:ext cx="7264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F016-46C2-493B-93A5-5E6284A5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51B4-3908-43ED-8515-CCE57935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323-681C-494B-9F15-E70F1382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872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5E07-35F6-4E99-91BD-1DD08176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AEA8-7C37-457D-BB94-4E83F176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4880" y="38023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3C7A-3D2C-406F-AA9B-1743A03F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872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D97B-CDD4-4325-89D7-8DDBAE30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2116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7744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488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2116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7744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9046-6619-4ABD-8B5B-DC22B2ED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8B6-DA2E-46B7-922F-85FE5809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DF5-A247-42FE-ACCC-6C9D6327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3CE-78B4-4DDF-995E-7BCDCD9B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880" y="152280"/>
            <a:ext cx="7264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CD9-B303-4903-B80C-CA3D5FDA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94D-F852-4801-912C-A0829FA0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72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F5C-442D-48D1-AD44-E6E2D76E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99C-5992-40C7-A65A-DD500861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1" marL="720720" indent="-277200">
              <a:spcBef>
                <a:spcPts val="799"/>
              </a:spcBef>
              <a:buClr>
                <a:srgbClr val="336699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2" marL="1108440" indent="-221400">
              <a:spcBef>
                <a:spcPts val="799"/>
              </a:spcBef>
              <a:buClr>
                <a:srgbClr val="336699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3" marL="1551960" indent="-221400">
              <a:spcBef>
                <a:spcPts val="799"/>
              </a:spcBef>
              <a:buClr>
                <a:srgbClr val="336699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4" marL="1995480" indent="-221400">
              <a:spcBef>
                <a:spcPts val="799"/>
              </a:spcBef>
              <a:buClr>
                <a:srgbClr val="336699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5" marL="1995480" indent="-221400">
              <a:spcBef>
                <a:spcPts val="799"/>
              </a:spcBef>
              <a:buClr>
                <a:srgbClr val="5a4b3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6" marL="1995480" indent="-221400">
              <a:spcBef>
                <a:spcPts val="799"/>
              </a:spcBef>
              <a:buClr>
                <a:srgbClr val="5a4b3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7320" y="6248520"/>
            <a:ext cx="156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4b3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28760" y="6248520"/>
            <a:ext cx="330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4b3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60800" y="6248520"/>
            <a:ext cx="156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3669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4929-F32C-4010-88AF-B3EBD89C57ED}" type="slidenum">
              <a:rPr b="0" lang="zh-CN" sz="1200" spc="-1" strike="noStrike">
                <a:solidFill>
                  <a:srgbClr val="33669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1" marL="720720" indent="-277200">
              <a:spcBef>
                <a:spcPts val="799"/>
              </a:spcBef>
              <a:buClr>
                <a:srgbClr val="336699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2" marL="1108440" indent="-221400">
              <a:spcBef>
                <a:spcPts val="799"/>
              </a:spcBef>
              <a:buClr>
                <a:srgbClr val="336699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3" marL="1551960" indent="-221400">
              <a:spcBef>
                <a:spcPts val="799"/>
              </a:spcBef>
              <a:buClr>
                <a:srgbClr val="336699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4" marL="1995480" indent="-221400">
              <a:spcBef>
                <a:spcPts val="799"/>
              </a:spcBef>
              <a:buClr>
                <a:srgbClr val="336699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5" marL="1995480" indent="-221400">
              <a:spcBef>
                <a:spcPts val="799"/>
              </a:spcBef>
              <a:buClr>
                <a:srgbClr val="5a4b3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6" marL="1995480" indent="-221400">
              <a:spcBef>
                <a:spcPts val="799"/>
              </a:spcBef>
              <a:buClr>
                <a:srgbClr val="5a4b3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73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4b3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58520" y="6248520"/>
            <a:ext cx="47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4b3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a4b3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7D6A-5361-495F-9BFA-258716457FB4}" type="slidenum">
              <a:rPr b="1" lang="zh-CN" sz="1200" spc="-1" strike="noStrike">
                <a:solidFill>
                  <a:srgbClr val="5a4b3c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1089000"/>
            <a:ext cx="6438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336699"/>
              </a:solidFill>
              <a:latin typeface="华文琥珀"/>
              <a:ea typeface="华文琥珀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7680" y="2743200"/>
            <a:ext cx="643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a4b3c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03:38:58Z</dcterms:created>
  <dc:creator/>
  <dc:description/>
  <cp:keywords/>
  <dc:language>en-US</dc:language>
  <cp:lastModifiedBy>Quanquan</cp:lastModifiedBy>
  <dcterms:modified xsi:type="dcterms:W3CDTF">2011-09-13T07:44:25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42052</vt:lpwstr>
  </property>
</Properties>
</file>